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F02-F0E5-4322-ABCB-A5A94EEF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F2B-97F1-4FFD-A8BC-1820CF3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92B-0264-4EA0-A52B-FBDE3D30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D32-8CB1-4822-8601-5A3F3D1E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9A4-12DE-4BF5-B2A6-C354B2AE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55C-371D-426E-852C-370CA91B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D2B-2E07-4F9C-8E60-664DAAEF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1BA-AA9D-4017-9F25-1288AA4D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8D6-2A56-4C99-9AA8-6B11DF71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27D-EFC9-412F-9450-F0A57184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F3F-094A-4751-80C6-B530D11F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459-7CEB-4945-83D7-71B7F6C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B4B2-9815-485B-9B4D-B750290C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groe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i Ko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g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nov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ten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5486400"/>
            <a:ext cx="3487680" cy="51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169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315200" cy="506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UF 3: Releases en pat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486400"/>
            <a:ext cx="1524240" cy="762120"/>
          </a:xfrm>
          <a:prstGeom prst="wedgeRoundRectCallout">
            <a:avLst>
              <a:gd name="adj1" fmla="val -105208"/>
              <a:gd name="adj2" fmla="val 15416"/>
              <a:gd name="adj3" fmla="val 16667"/>
            </a:avLst>
          </a:prstGeom>
          <a:solidFill>
            <a:srgbClr val="00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e releas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b.0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4572000"/>
            <a:ext cx="1447920" cy="685800"/>
          </a:xfrm>
          <a:prstGeom prst="wedgeRoundRectCallout">
            <a:avLst>
              <a:gd name="adj1" fmla="val -106250"/>
              <a:gd name="adj2" fmla="val 37268"/>
              <a:gd name="adj3" fmla="val 16667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e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uf0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3581280"/>
            <a:ext cx="1524240" cy="685800"/>
          </a:xfrm>
          <a:prstGeom prst="wedgeRoundRectCallout">
            <a:avLst>
              <a:gd name="adj1" fmla="val -99898"/>
              <a:gd name="adj2" fmla="val 52314"/>
              <a:gd name="adj3" fmla="val 16667"/>
            </a:avLst>
          </a:prstGeom>
          <a:solidFill>
            <a:srgbClr val="00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e rele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n0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2514600"/>
            <a:ext cx="1524240" cy="685800"/>
          </a:xfrm>
          <a:prstGeom prst="wedgeRoundRectCallout">
            <a:avLst>
              <a:gd name="adj1" fmla="val -317606"/>
              <a:gd name="adj2" fmla="val 194907"/>
              <a:gd name="adj3" fmla="val 16667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e patch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g0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kor</cp:lastModifiedBy>
  <dcterms:modified xsi:type="dcterms:W3CDTF">2009-11-24T17:02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